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0F8-9B9B-49BA-B35D-DEBABCD4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D94-DBAA-4088-951A-BB68CACD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988-735C-4F3E-80D5-1EAFB578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3E4-7692-420D-970E-E2813B33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7493-CEB7-4DF0-B6D0-C2136EE2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E20B-D280-4BEB-956A-67EBF966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17E1-62D2-4455-B126-7B62F0CA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0C38-FDAC-456F-A181-92103055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D6C6-1A9B-4C2A-9CE2-86023FB0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1E93-B203-4B04-A7FA-7C100C3E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61C2-5D68-4E3C-AA94-6273EFB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CB6-2EDD-494A-9E33-AA8E7660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5BC9-48B3-4693-892A-5B40EB5B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5D2A-84DE-40A2-8775-D4AD0B40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1AC4-421D-45ED-A3F6-5B8E1E2C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A960-89CC-408A-BACC-D056C5BC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1FFF-7200-472C-9E4D-BEC20A94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E9B-5E24-467C-AB38-9B07C93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A68-ACA3-47C3-8223-A44A5636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3B3-FECF-4AB2-AF7E-C795F046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40A-DCFC-4210-8CAC-DFB71AC3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039-000F-42B1-92A6-50B2CCB0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839-CF05-4D12-B175-5EF1F02E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32A-914D-4735-B575-0D91746D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0992-937F-4701-BDE4-E4EF808ADCE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E557-9E82-4833-9FBF-57E18D85067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Mi Mansi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Evan Morris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676520" y="2562120"/>
            <a:ext cx="60195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caro garaj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62120" y="2454120"/>
            <a:ext cx="65624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Mi Tipo de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tipo de casa es una mans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  <a:ea typeface="Arial"/>
              </a:rPr>
              <a:t>ó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3880" y="2562120"/>
            <a:ext cx="60199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ta es mi cocina impresionan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comedor!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mi comedor grande en mi mansió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8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1f08"/>
                </a:solidFill>
                <a:latin typeface="Arial Black"/>
              </a:rPr>
              <a:t>Sala!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rico sala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800" y="2433600"/>
            <a:ext cx="76960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El baño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fresco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añ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438280" y="2490840"/>
            <a:ext cx="43815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favorito cuarto en la mansió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3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and pat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a yard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agnífic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yar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066680" y="2492280"/>
            <a:ext cx="655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7:37Z</dcterms:created>
  <dc:creator>morrisoneva</dc:creator>
  <dc:description/>
  <dc:language>en-US</dc:language>
  <cp:lastModifiedBy>morrisoneva</cp:lastModifiedBy>
  <dcterms:modified xsi:type="dcterms:W3CDTF">2013-04-04T15:22:24Z</dcterms:modified>
  <cp:revision>4</cp:revision>
  <dc:subject/>
  <dc:title>Mi Mansion</dc:title>
</cp:coreProperties>
</file>